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5B3-58BA-410B-BE4A-2574B56C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218-965A-4913-A1CF-457BB44E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252-2B1A-4745-AE25-B5DE0F92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848-64FE-4BDC-86A1-D18818EE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9206-4674-48C0-B6A9-E4031027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7E5-833D-4AF5-9AB6-836C0F1C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F8B-F73A-4B27-BF8C-0AA1595B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0B6-ADD1-441E-9966-25C04D73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3FB2-45A6-4103-AF4A-51C09EA2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C04-1A25-4199-8E8A-CC664952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66A-8289-41C3-B9BB-D46F4CA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39E-18BF-4C68-B5AB-3C8C2802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EFEC-D76F-4FC4-96E9-5695F5CF7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omic Sans MS"/>
              </a:rPr>
              <a:t>APPRENTICESHIP TRAIN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&amp;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6c2826"/>
                </a:solidFill>
                <a:latin typeface="Comic Sans MS"/>
              </a:rPr>
              <a:t>REGISTERED APPRENTICESHIP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j0295366"/>
          <p:cNvPicPr/>
          <p:nvPr/>
        </p:nvPicPr>
        <p:blipFill>
          <a:blip r:embed="rId1"/>
          <a:stretch/>
        </p:blipFill>
        <p:spPr>
          <a:xfrm>
            <a:off x="304920" y="2540160"/>
            <a:ext cx="19652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c2826"/>
                </a:solidFill>
                <a:latin typeface="Comic Sans MS"/>
              </a:rPr>
              <a:t>REGISTERED APPRENTICESHIP PROGRAM (RA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mic Sans MS"/>
              </a:rPr>
              <a:t>STUDENTS LEARN A TRADE WHILE IN HIGH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AP STUDENTS MUST BE WORKING ON A HIGH SCHOOL DIPLOMA AND LEARNING A TRADE AT THE SAM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IME IS FLEXIB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- School half day, work half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- After school, weekends and on holi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- Summ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MCj02321330000[1]"/>
          <p:cNvPicPr/>
          <p:nvPr/>
        </p:nvPicPr>
        <p:blipFill>
          <a:blip r:embed="rId1"/>
          <a:stretch/>
        </p:blipFill>
        <p:spPr>
          <a:xfrm>
            <a:off x="0" y="685800"/>
            <a:ext cx="1474920" cy="151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0041-0503-1417-0533"/>
          <p:cNvPicPr/>
          <p:nvPr/>
        </p:nvPicPr>
        <p:blipFill>
          <a:blip r:embed="rId2"/>
          <a:stretch/>
        </p:blipFill>
        <p:spPr>
          <a:xfrm>
            <a:off x="6858000" y="3733920"/>
            <a:ext cx="1793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BENEFITS OF R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mic Sans MS"/>
              </a:rPr>
              <a:t>LEARN A T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ACTICAL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EARN UP TO 40 CREDITS FOR 1000 HOURS OF FIRST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EARN $$ WHILE IN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6c28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c2826"/>
                </a:solidFill>
                <a:latin typeface="Comic Sans MS"/>
              </a:rPr>
              <a:t>MAYBE A JOB AFTER GRADU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Comic Sans MS"/>
              </a:rPr>
              <a:t>GOOD REFERENCES FROM EMPLOY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0511-0703-2014-1738"/>
          <p:cNvPicPr/>
          <p:nvPr/>
        </p:nvPicPr>
        <p:blipFill>
          <a:blip r:embed="rId1"/>
          <a:stretch/>
        </p:blipFill>
        <p:spPr>
          <a:xfrm>
            <a:off x="5105520" y="1401840"/>
            <a:ext cx="1812960" cy="144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01-chef"/>
          <p:cNvPicPr/>
          <p:nvPr/>
        </p:nvPicPr>
        <p:blipFill>
          <a:blip r:embed="rId2"/>
          <a:stretch/>
        </p:blipFill>
        <p:spPr>
          <a:xfrm>
            <a:off x="6858000" y="3657600"/>
            <a:ext cx="17272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STEP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DECIDE ON A T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Comic Sans MS"/>
              </a:rPr>
              <a:t>PREPARE A GOOD RESUME AND COVER LETTER, PRACTICE FOR INTER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FIND AN EMPLOY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ORK WITH THE RAP COORDINATOR TO SET UP 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APPLY TO THE APPRENTICESHIP 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omic Sans MS"/>
              </a:rPr>
              <a:t>GO TO WORK AND LEAR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emails"/>
          <p:cNvPicPr/>
          <p:nvPr/>
        </p:nvPicPr>
        <p:blipFill>
          <a:blip r:embed="rId1"/>
          <a:stretch/>
        </p:blipFill>
        <p:spPr>
          <a:xfrm>
            <a:off x="6781680" y="304920"/>
            <a:ext cx="1876680" cy="1654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TOCL0090"/>
          <p:cNvPicPr/>
          <p:nvPr/>
        </p:nvPicPr>
        <p:blipFill>
          <a:blip r:embed="rId2"/>
          <a:stretch/>
        </p:blipFill>
        <p:spPr>
          <a:xfrm>
            <a:off x="6019920" y="5181480"/>
            <a:ext cx="16002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TIPS FROM TRADES PEOP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WHEN YOU ARE LOOKING FOR A JOB IN THE TR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Look your B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Dress for Su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Be Courte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Be Grate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Be Ea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Be Rel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- B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db_welderca112"/>
          <p:cNvPicPr/>
          <p:nvPr/>
        </p:nvPicPr>
        <p:blipFill>
          <a:blip r:embed="rId1"/>
          <a:stretch/>
        </p:blipFill>
        <p:spPr>
          <a:xfrm>
            <a:off x="7010280" y="4343400"/>
            <a:ext cx="1791000" cy="1790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mechanic"/>
          <p:cNvPicPr/>
          <p:nvPr/>
        </p:nvPicPr>
        <p:blipFill>
          <a:blip r:embed="rId2"/>
          <a:stretch/>
        </p:blipFill>
        <p:spPr>
          <a:xfrm>
            <a:off x="4724280" y="2438280"/>
            <a:ext cx="16671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Comic Sans MS"/>
              </a:rPr>
              <a:t>TRENDS</a:t>
            </a: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j0285444"/>
          <p:cNvPicPr/>
          <p:nvPr/>
        </p:nvPicPr>
        <p:blipFill>
          <a:blip r:embed="rId1"/>
          <a:stretch/>
        </p:blipFill>
        <p:spPr>
          <a:xfrm>
            <a:off x="3276720" y="3581280"/>
            <a:ext cx="232884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rcRect l="0" t="0" r="948" b="0"/>
          <a:stretch/>
        </p:blipFill>
        <p:spPr>
          <a:xfrm>
            <a:off x="642960" y="345960"/>
            <a:ext cx="796752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930" t="0" r="0" b="0"/>
          <a:stretch/>
        </p:blipFill>
        <p:spPr>
          <a:xfrm>
            <a:off x="533520" y="304920"/>
            <a:ext cx="8119800" cy="61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1189" r="893" b="201"/>
          <a:stretch/>
        </p:blipFill>
        <p:spPr>
          <a:xfrm>
            <a:off x="304920" y="304920"/>
            <a:ext cx="8458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Comic Sans MS"/>
              </a:rPr>
              <a:t>THE TRADES –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1f497d"/>
                </a:solidFill>
                <a:latin typeface="Comic Sans MS"/>
              </a:rPr>
              <a:t>APPRENTICESHIP 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j0436057[1]"/>
          <p:cNvPicPr/>
          <p:nvPr/>
        </p:nvPicPr>
        <p:blipFill>
          <a:blip r:embed="rId1"/>
          <a:stretch/>
        </p:blipFill>
        <p:spPr>
          <a:xfrm>
            <a:off x="457200" y="1295280"/>
            <a:ext cx="1542960" cy="1838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0415984[1]"/>
          <p:cNvPicPr/>
          <p:nvPr/>
        </p:nvPicPr>
        <p:blipFill>
          <a:blip r:embed="rId2"/>
          <a:stretch/>
        </p:blipFill>
        <p:spPr>
          <a:xfrm>
            <a:off x="1066680" y="4497480"/>
            <a:ext cx="160020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omic Sans MS"/>
              </a:rPr>
              <a:t>WHAT ARE TRAD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MORE THAN 50 TRADES IN ALBER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omic Sans MS"/>
              </a:rPr>
              <a:t>TRADES = HANDS ON + TECHN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SOME TRADES REQUIRE CERT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JOURNEYPERSONS, SOME DO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EIGHT CATEGORIES OF TR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BUILDING, ELECTRICAL, INDUSTRIA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METAL, PIPING, SERVICE, VEHI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0511-0703-2014-1805"/>
          <p:cNvPicPr/>
          <p:nvPr/>
        </p:nvPicPr>
        <p:blipFill>
          <a:blip r:embed="rId1"/>
          <a:stretch/>
        </p:blipFill>
        <p:spPr>
          <a:xfrm>
            <a:off x="7238880" y="3581280"/>
            <a:ext cx="1733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omic Sans MS"/>
              </a:rPr>
              <a:t>WHAT IS APPRENTICESHIP TRAININ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28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2826"/>
                </a:solidFill>
                <a:latin typeface="Comic Sans MS"/>
              </a:rPr>
              <a:t>APPRENTICES WORK FOR JOURNEYPERS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APPRENTICES LEARN ON THE JOB AND IN POSTSECONDARY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80% ON THE JOB, 20% IN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Comic Sans MS"/>
              </a:rPr>
              <a:t>EARN AND LEAR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c282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c2826"/>
                </a:solidFill>
                <a:latin typeface="Comic Sans MS"/>
              </a:rPr>
              <a:t>APPRENTICES ARE PAID WHILE ON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AUTOMOTIVE SERVICE APPRENTI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55% YEAR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70% YEAR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80% YEAR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90% YEAR 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EI OR GRANTS WHILE IN SCH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clipart0278"/>
          <p:cNvPicPr/>
          <p:nvPr/>
        </p:nvPicPr>
        <p:blipFill>
          <a:blip r:embed="rId1"/>
          <a:stretch/>
        </p:blipFill>
        <p:spPr>
          <a:xfrm>
            <a:off x="6095880" y="30481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8:24:15Z</dcterms:created>
  <dc:creator>Administrator</dc:creator>
  <dc:description/>
  <dc:language>en-US</dc:language>
  <cp:lastModifiedBy>owner</cp:lastModifiedBy>
  <dcterms:modified xsi:type="dcterms:W3CDTF">2010-11-22T22:00:07Z</dcterms:modified>
  <cp:revision>51</cp:revision>
  <dc:subject/>
  <dc:title>Slide 1</dc:title>
</cp:coreProperties>
</file>